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7CA-97B1-4499-ABFE-F42200D1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115-E771-4F78-8797-22561CFD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7A4-99B2-4317-9553-B16AEFE2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E9D-138E-4532-8266-6594D3D7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FFE7-A9BF-487C-BB02-E2BBB121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54DE-8EDA-4064-AE6C-7FD15307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CE97-46D7-4515-846C-F458FBEB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4094-DBC2-4FD5-AF8B-B2C9CA1B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559B-7D81-453A-A343-0D04990B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14B7-6568-4742-8DB9-C293C356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2A50-C91B-4986-9F89-DCBC4368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042-F2FA-4353-8B25-332B81D7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B0A2-B8E0-4C7E-A11D-A07A0367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8F4F-C712-43D7-9522-74EF88D6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B956-5E56-42E5-833B-E29958CD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3486-D236-439F-8186-3F5839F7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E2CF-E8D7-4B16-8495-47CB7A05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B1E-468E-4D72-B1F1-1BAE8D6E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6EC-11FC-452C-87A5-021E9B07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8B6-CFC6-45E2-AA67-430A2914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EBA-97F1-4820-ACBC-527D4B8F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7C9-67C8-4873-BB4A-38F5C669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E43-1B1C-427C-9F3A-A07814D9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8CA-B72E-4306-91AE-3322E9F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61D3-7BCD-4053-B2D7-A1868C131B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7AA8-CC62-4104-BC71-D8988A92FC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92840" cy="6759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ONTE CASTEL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EGIÃO URB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 falasse a língua dos anjos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2197080" y="-603360"/>
            <a:ext cx="12349080" cy="8325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979960" y="31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18760" y="2104200"/>
            <a:ext cx="6674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falasse a língua dos anjo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 amor eu nada ser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2040840"/>
            <a:ext cx="626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falasse a língua dos anjo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 amor eu nada seri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0"/>
            <a:ext cx="8229600" cy="61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59960" y="1843920"/>
            <a:ext cx="800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só o amor! É só o am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conhece o que é verdad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 amor é bom, não quer o mal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ão sente inveja ou se envaidece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252360" y="-819000"/>
            <a:ext cx="9718560" cy="8280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2173320" y="2110680"/>
            <a:ext cx="10993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 amor é o fogo que arde sem se ver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ferida que dói e não se s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um contentamento descont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dor que desatina sem do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10404360" cy="6899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-1044720" y="-41400"/>
            <a:ext cx="11449080" cy="7591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-1549440" y="-733320"/>
            <a:ext cx="11449080" cy="7591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47640" y="172332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nda que eu falass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íngua dos hom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falasse a língua dos anjo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 amor eu nada ser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 um não querer mais que bem querer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 solitário andar por entre a gent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 um não contentar-se de contente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 cuidar que se ganha em se perd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1332000" y="-603360"/>
            <a:ext cx="13465440" cy="8871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26920" y="404280"/>
            <a:ext cx="756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um não querer mais que bem querer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solitário andar por entre a g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um não contentar-se de content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cuidar que se ganha em se perd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14187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um estar-se preso por vontade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servir a quem vence, o vencedor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um ter com quem nos mata a lealdad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ão contrário a si é o mesmo am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-757080" y="46080"/>
            <a:ext cx="9901080" cy="7539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28640" y="2026800"/>
            <a:ext cx="768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tou acordado e todos dormem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dos dormem. Todos dormem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ora vejo em parte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s então veremos face a f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10800000" cy="10544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192680" y="4723560"/>
            <a:ext cx="721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 só o amor! É só o am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conhece o que é verdade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0:45:24Z</dcterms:created>
  <dc:creator>SEDMS</dc:creator>
  <dc:description/>
  <dc:language>en-US</dc:language>
  <cp:lastModifiedBy>SEDMS</cp:lastModifiedBy>
  <dcterms:modified xsi:type="dcterms:W3CDTF">2010-11-09T01:47:37Z</dcterms:modified>
  <cp:revision>3</cp:revision>
  <dc:subject/>
  <dc:title>MONTE CASTELO</dc:title>
</cp:coreProperties>
</file>